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4172-761D-4301-B750-77F4347BE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0F28-4CA9-4FF6-8367-5B7076DB2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4C2AE4-5870-44D8-8EE8-F0D651911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20E0B7-55FD-4BCE-975A-96A55568B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08200C-B725-401A-8551-5532B2E38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6A44FC-7138-4208-B6AA-FBEF5603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9D853B-D873-44F7-A1B7-5F9127FE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ECF4DF-0D11-41B8-9127-F3683EC4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F657B6-EE7A-425A-8EB1-FB47A51F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4A7C56-1F66-46DF-8EC1-E34EF6D7C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184DC6-0008-4815-AE2A-BC1F86BB5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9071-21B5-449C-8199-433E0987A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0582-D8FB-4D7C-A848-691102CFD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51791-3CB4-43D5-A42F-ACD22C837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F50B6-72CD-4EA8-BAC7-7B540BB73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79BAC-8A00-40B8-AF2B-D131D0711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46D6E-E2B7-400D-B1BE-E42011581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E2A89-DCB9-4AD0-8225-1DAE25C09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BAEE0-6D9A-4D7B-A18A-646EAA392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2F325-8FE1-4585-898F-30A40948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B967-BEA2-4F4D-A931-66C6FFB02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4B2AA-62DC-4C69-B248-8BA8FBD4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1F884-C7E3-464D-A332-E4A95CFE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D5E4A-B34A-4082-9A40-236EAA19E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6B136-D49D-4A22-A147-0F7959A81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B0A93-9E67-47C5-B629-9D3DF4D82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E708B-4C22-4BA8-A074-99A5577D3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92272-09C5-4889-BD2E-4C0D1D9FE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32C36-7671-4D80-8C06-EB695F15C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CB5BC-1A22-4372-83F8-6CC0F720C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E5C5D-4642-4DE7-AD41-9D7C3C012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1B71-C0A9-4371-AF98-112940712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09552-05B8-490A-9CEE-16F0BC52F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34896-39E8-4430-A488-0C4D8C8F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FB9D9-D105-4670-89EA-B7B07863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D44C6-33C2-471C-AA3C-17FDC085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8B1FC-1E16-4732-84DE-A9C502A63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78E21-D4E6-42F7-AF47-DE08A4101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BDCBC-58BE-477B-A4C8-24520BC70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B9E54-31DC-4030-894C-54DC0D6EC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F3550-11FD-4ABC-AA73-1D42BF252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E5B18-AD0B-4953-B135-C05B89924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A1D9-7878-4E17-8618-C2B46C141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D65B7-EA98-49E2-8EAC-6BF227C58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F0CBF-2D60-4CC5-9E07-22DD542D4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7B0DF-5473-4CF3-A174-75E832FA6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59687-A368-411E-A352-647ED228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F9C16-65FA-472A-934D-86D8EF0E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8D5FD-EA5A-48D8-A457-372E818E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49933-F689-4E6B-9670-FE6AE148D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4D0A9-9EFA-453E-B696-136BA0E65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5900B-7A3B-4AF5-8739-83CA689EB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35261-45AC-412A-9EF6-B826FFF6D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0CB5-7E01-4C03-8079-424C98A7C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DD41D-8379-48CC-8F18-A72E39F94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B8FA7-68C7-4785-910A-19F8BD7BE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BD62D-BEB6-4DCF-9B67-44365D880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B7D24-219D-4B37-97A6-AAE2DC618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0E740-D361-4A1D-976A-7398A9703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EF8DF-4B9B-4AFA-AFEC-54538527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22405-D445-4A50-A26C-58E187FB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4533F-DA4B-4F85-9FF6-7B1BE2C2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2EAA0-B0E5-4DC5-B7E4-8BB2E6E4F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7B167-B854-46E4-861D-AA2585269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5DA7-3B6A-42E5-B799-4994C4B37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D3F51-E680-4381-AA72-763CDBA0E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5937A8-C60D-4629-B169-CF7CECFC4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6BAEF-38FC-4A96-AFC2-5739F4FFC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7DF1D-97DE-440D-B0C0-6BF0A3B5B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A156C-4D1B-48B0-9B69-3F7153ADC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C694A5-E4DA-4B5C-B6DA-664A6A7EE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65FC4-99E9-46B4-8A5E-818FE3D25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A8029-16A5-448E-B71F-031EDE1B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5B8B2-B6B7-40C3-A3FF-41F6EF5E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2467DA-1753-4496-950B-5DDCC5E1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A94A-AA99-4B23-9B70-D70DA0C2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3016A-CE98-480C-B4F8-B16E2CD79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FBC77F-D877-4237-AC69-6A7D695A1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66348-4A73-4CA8-B7E1-AD30B03F8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2862E-57BC-4551-881E-AF2FAD62C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E71E1-91AA-45FD-A3D7-991DB2BC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86966-BCDE-4083-B674-9838837F6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A363F-C3A3-4F5A-BE66-5B1013387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2DDB64-28FB-4245-8B17-4D3ABCD17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EDF60-F1EA-4951-BF24-3B30BE6E6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EB2C20-FE89-4064-A813-DECA9387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3DD7-3A45-4231-9083-45F694A4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23E17-E6DC-4435-9D14-4FC2C118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22538E-00D1-4537-AB88-754072A2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E08C1-0AEC-4A64-9A20-26260FE9D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11163-EC8D-4E41-99CC-FB1AD3D28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1DB90-0ACD-4D31-AFFF-419727322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20FE77-F01A-47B1-BAB7-6CEC92EAC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8E828A-4E24-4D0F-AF8F-46CB714B8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98BA6C-93A0-4556-8526-98BE007DC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BE300E-78F1-4B12-9A9C-D56CA3D72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5031F9-D131-459E-9A99-7BA2207DD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C969-C0F4-4514-A73B-3ABDF362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0CF0FD-D796-43A9-BBC4-D924D1C63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5C9C47-365D-4D94-BB64-B41BF1C8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68749B-D98B-4A6F-9EBE-87E95ED3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E44C75-6D87-4121-966C-98BEA1B4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C01741-B6F5-4469-99A0-533338F9F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4A1E6C-9ABA-4F8A-A0CD-D016A04B6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8A8C97-5AE0-4908-97C0-60311212A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BE6637-0D71-4C1D-AA8D-90F6039CA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F12ABA-9A35-4B19-8C0C-77C96EAB1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EFC3F4-58B5-4B14-8541-1D2492539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E0A32-DEB8-48F1-AC57-799B38E271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3281C-6937-4C4E-8BFB-CC17B59AF8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332280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164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164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164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0E901-8429-4F00-AFDB-4A06C97B30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Angelina"/>
              </a:rPr>
              <a:t>Click to edit the title text format</a:t>
            </a: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AFE5-D5C3-47C2-A357-D409FBC35C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6826B-1BA8-44D2-9DAC-DE3F30E079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332280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164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164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164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0A9FC-B782-4FA6-ADE9-5FCE6FF380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C5E8D-B4AE-4040-AF3B-813A420AE9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A654F-7C52-4100-884F-C22CFE9516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332280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164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164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164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2BB9B-9D23-4EB3-9168-72B9AE9232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Angelina"/>
              </a:rPr>
              <a:t>5.3: Exponential Functions</a:t>
            </a: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bruary 28,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Angelina"/>
              </a:rPr>
              <a:t>Objectives</a:t>
            </a: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inguish between linear and exponential grow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l data with exponential grow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compound inte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the natural exponential function in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Angelina"/>
              </a:rPr>
              <a:t>What is an exponential function?</a:t>
            </a: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(x)=Ca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&gt;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&gt;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is the 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 is the coeffic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is raised to the exponent first, the multiplied by 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 is also the y intercept because a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0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1 and C*1=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Angelina"/>
              </a:rPr>
              <a:t>Linear vs. exponential</a:t>
            </a: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onential functions look li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4343400" y="2590920"/>
            <a:ext cx="4038480" cy="3617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Angelina"/>
              </a:rPr>
              <a:t>Finding exponential growth</a:t>
            </a: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exponential growth, the output increases by a constant factor (a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ordered pair x=0 y=?, y=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ck this ou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380880" y="3886200"/>
          <a:ext cx="3657600" cy="1270080"/>
        </p:xfrm>
        <a:graphic>
          <a:graphicData uri="http://schemas.openxmlformats.org/drawingml/2006/table">
            <a:tbl>
              <a:tblPr/>
              <a:tblGrid>
                <a:gridCol w="731520"/>
                <a:gridCol w="731520"/>
                <a:gridCol w="731520"/>
                <a:gridCol w="731520"/>
                <a:gridCol w="731520"/>
              </a:tblGrid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81" name=""/>
          <p:cNvGraphicFramePr/>
          <p:nvPr/>
        </p:nvGraphicFramePr>
        <p:xfrm>
          <a:off x="4343400" y="4648320"/>
          <a:ext cx="4038480" cy="1574640"/>
        </p:xfrm>
        <a:graphic>
          <a:graphicData uri="http://schemas.openxmlformats.org/drawingml/2006/table">
            <a:tbl>
              <a:tblPr/>
              <a:tblGrid>
                <a:gridCol w="807480"/>
                <a:gridCol w="807840"/>
                <a:gridCol w="807480"/>
                <a:gridCol w="807840"/>
                <a:gridCol w="807840"/>
              </a:tblGrid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Angelina"/>
              </a:rPr>
              <a:t>Sketching a graph</a:t>
            </a: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y the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(x)=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(x)= (2)(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3581280" y="1600200"/>
            <a:ext cx="4870440" cy="4886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8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Angelina"/>
              </a:rPr>
              <a:t>Your assignment</a:t>
            </a: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ge 413 #19-24, 43-5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01:05:19Z</dcterms:created>
  <dc:creator>nuhs</dc:creator>
  <dc:description/>
  <dc:language>en-US</dc:language>
  <cp:lastModifiedBy>nuhs</cp:lastModifiedBy>
  <dcterms:modified xsi:type="dcterms:W3CDTF">2008-02-28T20:42:28Z</dcterms:modified>
  <cp:revision>4</cp:revision>
  <dc:subject/>
  <dc:title>5.3: Exponential Functions</dc:title>
</cp:coreProperties>
</file>